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E474-E284-498E-B827-77556FCDC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9EAF-BB3B-43E8-8980-DF8C4C46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C925-4A6C-46C7-A0E1-449C02D99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6203-56C0-4DDC-AC4A-D52282C71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5AB1-1B79-48DF-90F8-DD9D022D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D1E6-AD62-42A8-8CD9-26E58F39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B48F-85B6-4524-8F72-792D6E2D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F2B0-0BAA-4B2F-8DBA-E34AEFDB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AB5E-6F62-480A-946C-146ADC39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7515-74DB-4F78-A392-7C317A60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D9AB-E3A6-4E12-8FE3-749543CB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0B95-D9DD-4D1D-9B1A-7135560E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6AFD-F5A9-445B-8585-5067EE6CA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050920" y="0"/>
            <a:ext cx="6912000" cy="1314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863720" cy="84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916280"/>
            <a:ext cx="77724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c0000"/>
                </a:solidFill>
                <a:latin typeface="Arial"/>
              </a:rPr>
              <a:t>Okus tradicije in pridnih rok ponujata </a:t>
            </a:r>
            <a:br>
              <a:rPr sz="2500"/>
            </a:br>
            <a:r>
              <a:rPr b="1" lang="en-US" sz="2500" spc="-1" strike="noStrike">
                <a:solidFill>
                  <a:srgbClr val="5c0000"/>
                </a:solidFill>
                <a:latin typeface="Arial"/>
              </a:rPr>
              <a:t>dobrote z naših kmetij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40360" y="2133720"/>
            <a:ext cx="32036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mečke dobrote nekdaj in še danes so tradicionalno izdela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 predelavo vstopajo sam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izvodi s kmetij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začimb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ol in zelišč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3006720"/>
            <a:ext cx="5796000" cy="3851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96000" y="6431040"/>
            <a:ext cx="23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3300"/>
                </a:solidFill>
                <a:latin typeface="Arial"/>
              </a:rPr>
              <a:t>Prleška t</a:t>
            </a:r>
            <a:r>
              <a:rPr b="1" lang="en-US" sz="2200" spc="-1" strike="noStrike">
                <a:solidFill>
                  <a:srgbClr val="003300"/>
                </a:solidFill>
                <a:latin typeface="Arial"/>
              </a:rPr>
              <a:t>ü</a:t>
            </a:r>
            <a:r>
              <a:rPr b="1" lang="sl-SI" sz="2200" spc="-1" strike="noStrike">
                <a:solidFill>
                  <a:srgbClr val="003300"/>
                </a:solidFill>
                <a:latin typeface="Arial"/>
              </a:rPr>
              <a:t>n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47640" y="1268280"/>
            <a:ext cx="58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MESO IN MESNI IZDELKI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363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Ali ves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V kmečkih salamah </a:t>
            </a:r>
            <a:r>
              <a:rPr b="1" i="1" lang="en-US" sz="2800" spc="-1" strike="noStrike" u="sng">
                <a:solidFill>
                  <a:srgbClr val="003300"/>
                </a:solidFill>
                <a:uFillTx/>
                <a:latin typeface="Arial"/>
              </a:rPr>
              <a:t>vso maščobo vidimo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, nič ni skrite maščob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Pri izdelavi kmečkih salam se doda samo še sol, poper in česen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92360" y="2617920"/>
            <a:ext cx="5472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5292720" cy="29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00"/>
                </a:solidFill>
                <a:latin typeface="Arial"/>
              </a:rPr>
              <a:t>Ali ves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00"/>
                </a:solidFill>
                <a:latin typeface="Arial"/>
              </a:rPr>
              <a:t>Da kmečkim izdelkom ne dodajajo raznih kemičnih sestavin, saj je v mesu prisotna naravna mikro flora (encimi in bakterije), ki omogočajo, da meso zori in salama postane užitn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32000" y="3645000"/>
            <a:ext cx="2676600" cy="2952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377676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1052280"/>
            <a:ext cx="417672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li vest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00"/>
                </a:solidFill>
                <a:latin typeface="Arial"/>
              </a:rPr>
              <a:t>Zakonodaja dovoljuje, da je hrenovka sestavljena tako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3300"/>
                </a:solidFill>
                <a:latin typeface="Arial"/>
              </a:rPr>
              <a:t>75% mesnega testa* iz govedine in svinjine – v testu mora biti najmanj 25% svinjskega mesa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00"/>
                </a:solidFill>
                <a:latin typeface="Arial"/>
              </a:rPr>
              <a:t>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3300"/>
                </a:solidFill>
                <a:latin typeface="Arial"/>
              </a:rPr>
              <a:t>največ 25% slanine (svinjska tolšča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211640" y="1125360"/>
            <a:ext cx="4729320" cy="3829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5280" y="5084640"/>
            <a:ext cx="842472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*</a:t>
            </a:r>
            <a:r>
              <a:rPr b="1" lang="en-US" sz="2200" spc="-1" strike="noStrike">
                <a:solidFill>
                  <a:srgbClr val="003300"/>
                </a:solidFill>
                <a:latin typeface="Arial"/>
              </a:rPr>
              <a:t>Mesno testo - je mesna masa pridobljena s sekljanjem katerekoli vrste pustega, toplega, ohlajenega ali zmrznjenega mesa. Dovoljen je dodatek soli, tehnoloških dodatkov in aditivov ter vode v količini, ki so potrebni, da je masa testaste konsiste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08:00:03Z</dcterms:created>
  <dc:creator>Andrej Lombar</dc:creator>
  <dc:description/>
  <dc:language>en-US</dc:language>
  <cp:lastModifiedBy>MKGP</cp:lastModifiedBy>
  <dcterms:modified xsi:type="dcterms:W3CDTF">2011-10-10T08:34:45Z</dcterms:modified>
  <cp:revision>12</cp:revision>
  <dc:subject/>
  <dc:title>Diapozitiv 1</dc:title>
</cp:coreProperties>
</file>