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70B-A6BD-4FDE-95BE-0151895B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DC1-1EA4-46DC-8F37-FF79E79B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AE3-BF33-48EA-BEA8-0D876D16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ACD-4C74-456B-B844-2F6FE77B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0AD-9296-4137-8106-6042768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C91-3D2C-4955-A3FA-1A95404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F61-1B21-43D6-9FE3-43B93CE3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C4A-8BAA-434A-9DB5-68B1D6C2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1C4-AB69-482A-BE47-DB74172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0A1-1403-4619-B492-D6A98D9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4F2-02C1-4EEB-A087-E60E477C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265-DD0F-47BC-B356-85B41D35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41DA-ADFE-4EB1-BE58-318CC531FA6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6912000" cy="1314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63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16280"/>
            <a:ext cx="6012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c0000"/>
                </a:solidFill>
                <a:latin typeface="Arial"/>
              </a:rPr>
              <a:t>Neoporečni vodni viri ponujajo zdrave in kakovostne ribiške in ribogojske pridelk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2133720"/>
            <a:ext cx="3203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be in ribji izdelki se že tradicionalno uporabljajo v prehrani ljud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nost dajemo svežim ribam iz lokalnih ribogojnic in iz domačega mor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268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IBE IN RIBJI IZDELK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55450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5280" y="6021360"/>
            <a:ext cx="20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mljena post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3538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be so zelo pomembne v naši prehrani, saj so lahko prebavljive in imajo visoko biološko vred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be vsebujejo lahko prebavljive beljakovine, vitamine, minerale in imajo ugodno maščobno kislinsko sestavo (veliko omega 3 maščobnih kislin), ki so pomembne v zdravi prehrani in nujne za človekov organiz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bje beljakovine se prebavijo v 3 do 4 urah, goveje meso se prebavi v 8 do 10 ur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00"/>
                </a:solidFill>
                <a:latin typeface="Arial"/>
              </a:rPr>
              <a:t>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504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4321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li v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Kako pri nakupu ribe preverimo njeno svež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stre, izbočene, svetle o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Gladka in bleščeča koža brez slu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Čvrsto in elastično meso, ki se mora ob dotiku vrniti v prvoten polož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Škrge morajo biti svetlo rdeče ba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Značilen prijeten vonj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riporoča se uživanje 150 do 200 g različnih vrst rib enkrat do dvakrat tedensko. Pomembno je, da otroke že v predšolskem obdobju naučimo jesti različne vrste ri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116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00:03Z</dcterms:created>
  <dc:creator>Andrej Lombar</dc:creator>
  <dc:description/>
  <dc:language>en-US</dc:language>
  <cp:lastModifiedBy>MKGP</cp:lastModifiedBy>
  <dcterms:modified xsi:type="dcterms:W3CDTF">2011-10-10T08:38:11Z</dcterms:modified>
  <cp:revision>19</cp:revision>
  <dc:subject/>
  <dc:title>Diapozitiv 1</dc:title>
</cp:coreProperties>
</file>