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581-A1E7-408F-9D71-FCC5572A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817-8924-4B5B-A015-A2D2F4B6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148-6A7B-4E5D-B144-FDEAB575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12B-79D7-40CE-81CA-8F35ECC9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E35-4FC0-4BF7-AAB7-EA3C1C4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AC3-F698-4FC0-802F-16CEF1E9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5C9-6C48-4C7A-B243-EE54CC8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067-79CF-450E-AAF3-815A15E1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7AD-48EC-4C5A-9159-34C43D0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DA6-8940-4357-8EA6-9DB4578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769-C961-4261-892A-805CE1A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9BC-C934-4E42-B2D9-975816D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331E-AA53-4CD3-B78E-8B1320EA8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800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707920"/>
            <a:ext cx="856908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752920"/>
            <a:ext cx="7634160" cy="46656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ipravo zajtrka se za kuhanje ter peko  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Uporaba lokalne hrane ter domačih obnovljiv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energij pomeni tudi varovanje ok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Drva so tradicionalen domač obnovljiv vir energ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00"/>
                </a:solidFill>
                <a:latin typeface="Arial"/>
              </a:rPr>
              <a:t>Tradicionalen zajtrk lahko pripravimo tudi s pomočjo ostalih domačih obnovljivih virov energ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36640"/>
            <a:ext cx="8208720" cy="9471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491920"/>
            <a:ext cx="8229600" cy="3961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00"/>
                </a:solidFill>
                <a:latin typeface="Arial"/>
              </a:rPr>
              <a:t>Za prevoz hrane se uporablja ener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 nakupu hrane se redko vprašamo kje je bila hrana pridelana ter kakšno onesnaževanje povzročamo z nakupi sadja in zelenjave, ki se vozi na dolge razda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Tradicionalen zajtrk je pridelan </a:t>
            </a: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iz lokalno pridelane hrane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iz pridelkov pridelanih doma ali v domačem okol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adje in zelenjava, ki se prevaža na velike razdalje, mora biti  utrgana ko je še zelena, ter obdelani z različnimi kemičnimi prepara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6840" cy="133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60036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300"/>
                </a:solidFill>
                <a:latin typeface="Arial"/>
              </a:rPr>
              <a:t>Tradicionalno je tudi lokalno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, tako iz vidika izvora hrane kot porabe energije za njeno pripra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Sloveniji priraste letno okoli 4 m3 lesa na prebival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V kolikor bi ves les po uporabi v izdelkih reciklirali in na koncu skurili bi bilo to v toploti   primerljivo z okoli 1000 l kurilnega o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Slovenija je edina država v EU ki zaenkrat nima niti ene večje vetrne elektra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300"/>
                </a:solidFill>
                <a:latin typeface="Arial"/>
              </a:rPr>
              <a:t>Obnovljive vire energij moramo bolje izkoristi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59:05Z</dcterms:created>
  <dc:creator>Miha Koprivnikar</dc:creator>
  <dc:description/>
  <dc:language>en-US</dc:language>
  <cp:lastModifiedBy>MKGP</cp:lastModifiedBy>
  <dcterms:modified xsi:type="dcterms:W3CDTF">2011-10-18T08:50:09Z</dcterms:modified>
  <cp:revision>6</cp:revision>
  <dc:subject/>
  <dc:title>Diapozitiv 1</dc:title>
</cp:coreProperties>
</file>