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C7D-DA20-4AD9-8900-C0D57974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A48-86CB-4C01-A51B-EF88E83B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037-308A-4857-8D34-65221AE8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816-1A20-49B9-9F06-8F67B82F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69D-2D13-43E0-9AD5-267EBCBA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A5F-A99F-40A7-A856-A9820141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A96-B201-496D-A5A3-8D32BD07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11B-E2C7-4F78-99C5-6ECCCE0E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E90-822B-4F66-B742-2AF33EF6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F00-0C71-4E8C-8EE0-F581E48C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876-7377-4891-8495-C0707CD1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D20-32C6-41A7-84F0-D8815B37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07F7-B8E7-4687-86DA-6D771E93256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6912000" cy="1314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86372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20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OVANJE VIROV PITNE V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delava hrane na vodovarstvenih območj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men vode za življ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 zadnjih 100 letih se je poraba pitne (sladke) vode v svetu povečala za  šestkr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araščanje števila prebivalstva in grožnja klimatskih sprememb lahko ob neustreznem načinu uporabe in varovanja pitne vode pripelje do velike svetovne krize z vo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skrbo s pitno vodo lahko ogrozi tudi naraščanje vsebnosti nevarnih snovi v vodi, kar vpliva na poslabševanje njene kakovosti ter primernosti razpoložljivih vodnih virov za uporab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ednostna naloga je odpravljanje škodljivih vplivov na vode in zagotavljanje vode primerne kakovosti za človeka in naravne ekosistem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oga kmetijstva pri ohranjanju čiste pitne v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membno je, da pri kmetovanju ne onesnažujemo okolja, da ohranjamo biotsko raznovrstnost in tipično slovensko kraj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memben del varovanja okolja pri kmetijski pridelavi je varovanje virov pitne v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Sloveniji predstavlja glavnino pitne vode podzemna voda, ki pa je na intenzivnih kmetijskih površinah lahko precej izpostavljena onesnaženju zaradi uporabe gnojil in fitofarmacevtskih sredstev (FF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okolici zajetij pitne vode so določeno površino opredelili kot VVO na katerem velja poseben režim varovanja pitne v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VVO sta omejena gnojenje kmetijskih površin in raba FFS. Z upoštevanjem teh predpisov, daje kmetijstvo pomemben doprinos k varovanju vodnih viro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Ključno za varovanje voda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 se ne uporabljajo organska gnojil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 se omeji in nadzoruje uporaba dušičnih mineralnih gnoji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 se uporabljajo le tista FFS, ki ne predstavljajo nevarnosti za pitno vo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 se v čimvečji možni meri izvajajo tehnologije ekološkega kmetovanj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sveščanje, informiranje, obveščanje javnosti oziroma vseh deležnikov v verigi uporabe in varovanja pitne v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8:00:03Z</dcterms:created>
  <dc:creator>Andrej Lombar</dc:creator>
  <dc:description/>
  <dc:language>en-US</dc:language>
  <cp:lastModifiedBy>MKGP</cp:lastModifiedBy>
  <dcterms:modified xsi:type="dcterms:W3CDTF">2011-10-10T08:40:07Z</dcterms:modified>
  <cp:revision>5</cp:revision>
  <dc:subject/>
  <dc:title>Diapozitiv 1</dc:title>
</cp:coreProperties>
</file>