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dt" idx="16"/>
          </p:nvPr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ftr" idx="17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 type="sldNum" idx="18"/>
          </p:nvPr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005D-E722-414C-9B79-C3DBF207049D}" type="slidenum">
              <a:rPr b="0" lang="sl-SI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grada številke diapozitiva 3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0874-D878-4F7C-89D0-3C7CE8A0DD54}" type="slidenum">
              <a:rPr b="0" lang="sl-SI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A61D-9BF7-4D90-9EC2-EAE51B8F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31DF-A1AF-4489-A224-BB0DD060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B2B1-94FD-4A2D-B02E-CA532F9A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C955-1548-429B-9325-17EDF5AA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939E-8A51-4283-A4C6-4D86EB4A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3A59-2D0F-4597-BBD3-13EF0C05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7B12-99A1-4E95-A728-E96F6226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DCA9-08B0-43B7-9639-7836F19A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29B6-5F67-47B4-A902-6790542D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EF29-246A-4CD0-9912-36A7F832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7F78-79F5-4E26-A30F-DFB152AE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090-7F41-41EE-9216-FA5D7C17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3D00-D534-401A-8851-D156D810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11B4-D018-4A23-9948-4E6FF2CF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D5F5-61EE-4357-9BD0-A8C28E9F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2ED7-6DD4-4CC8-9EAD-7256B409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F288-9C6E-43FB-9B72-A2DBA89A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DA3B0-756E-4588-BAF2-97365945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61C5C-E72E-4A1B-AD3C-6B47B019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F80B3-D2C9-4E2A-9423-0D855680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64B6C-A9AC-4159-8738-24BEC546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80EF0-A6D4-4CFF-982F-6C99FD66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B929-0EBB-40C9-BF22-8DCB4E7E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FFA7A-2F6B-4DCE-8FAB-D5052A1F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4EA44-160D-4F39-84DE-7A45868B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1E2E0-1107-4DBB-98FD-A0AB8FC9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640FB-2583-42DD-AEEC-7A1A393F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CA5D2-939A-4F3F-B297-C85102E4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54A18-2B16-418A-BC78-41C7F111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36AB8-558E-4615-B358-72145111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69328-9806-4125-842E-34CF8710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77759-4682-494C-956B-40BFEDED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21835-A96A-4F7D-A297-CCD9B36C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AEAB-78D0-48C1-BABE-70200E14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75D9D-7FDD-4B9B-8FE9-DF17DF08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B5FBC-FC5A-4849-82CD-236D88B0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6EB5C-61C9-4A81-8E83-D3B9FB2C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902B0-0316-4FB0-8DF5-A295DEE7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E143E-E452-4FA9-B6E9-CDE4ED0C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3DA95-B78D-4789-A7EF-8285A7C5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92D06-A673-461A-9E65-352B0CBC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787D5-5FDD-4C4F-8E18-C58D2E80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91BAA-6DD4-47DD-B3E8-DD8D2C55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01903-6CDB-450E-B715-223C4AC8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6BC3-444B-4ACE-8F94-E876AA53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73DE8-497C-48FE-B038-E740184C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5CB1E-2FD3-4EF7-BBE1-E58FBEA2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B3663-FE66-4A62-A7DA-38D8E5F6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1AA6E-A05F-401E-B4B7-A3337042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4A21B-2B87-4A96-A747-11983D33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A0B00-0FB2-46A2-8530-4513CD56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FB519-2F48-482D-A066-40278874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D7F46-DD20-4FE1-A01E-C370DBEF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EADF6-3DF0-4ACA-9120-1C077EE1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D7BE6-69EC-461D-B2C3-3AC32E62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86CB-C246-4C11-A102-8529B132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16986-55FF-4645-8AEA-66E695A8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FB22-E8A3-4A6B-B4FB-D8952B5F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76BB-F44C-44D3-87A4-A7571C22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66F5-AD6B-4C84-A695-62EB0666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9E8A-C7C1-44FE-BD89-4074D6D21D5D}" type="slidenum">
              <a:rPr b="0" lang="sl-SI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623B-BDBB-487C-A66D-97B56A05ADCE}" type="slidenum">
              <a:rPr b="0" lang="sl-SI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9a9a9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c7c7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7435-5F5B-4B76-81AE-A83390A40E4B}" type="slidenum">
              <a:rPr b="0" lang="sl-SI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2A55-95B9-495B-A6EE-69AF7F5274D4}" type="slidenum">
              <a:rPr b="0" lang="sl-SI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4078-882A-4370-B17F-87496E7691F9}" type="slidenum">
              <a:rPr b="0" lang="sl-SI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356760" y="3143160"/>
            <a:ext cx="8358120" cy="3376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Calibri"/>
              </a:rPr>
              <a:t>VIDIKI ZDRAVE PREHRANE</a:t>
            </a:r>
            <a:r>
              <a:rPr b="0" lang="sl-SI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S POUDARKOM NA ZAJTRK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mag. Matej Gregorič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Mojca Gabrijelčič Blenkuš, Vida Fajdiga Tu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nštitut za varovanje zdravja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4" descr="glava_z_logotipi (2)"/>
          <p:cNvPicPr/>
          <p:nvPr/>
        </p:nvPicPr>
        <p:blipFill>
          <a:blip r:embed="rId1"/>
          <a:stretch/>
        </p:blipFill>
        <p:spPr>
          <a:xfrm>
            <a:off x="1440" y="115920"/>
            <a:ext cx="91440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849636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ako dobri smo v zajtrkovanj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3429000"/>
            <a:ext cx="82105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Mladostniki med vsemi obroki najpogosteje opuščajo zajtrk, med tednom še vedno nikoli ne zajtrkuje tretjina mladostnikov. Vzorec zajtrkovanja se ob koncu tedna znatno izboljša. Opuščanje zajtrka narašča s starostjo in je pogostejše med dekleti </a:t>
            </a:r>
            <a:r>
              <a:rPr b="0" lang="sl-SI" sz="1500" spc="-1" strike="noStrike">
                <a:solidFill>
                  <a:srgbClr val="000000"/>
                </a:solidFill>
                <a:latin typeface="Calibri"/>
              </a:rPr>
              <a:t>(HBSC, 2011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ravokotnik 1"/>
          <p:cNvSpPr/>
          <p:nvPr/>
        </p:nvSpPr>
        <p:spPr>
          <a:xfrm>
            <a:off x="611280" y="1690560"/>
            <a:ext cx="7705800" cy="1769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Calibri"/>
              </a:rPr>
              <a:t>Ena od profesoric iz celjske regije je zapisala: </a:t>
            </a:r>
            <a:r>
              <a:rPr b="1" i="1" lang="sl-SI" sz="2200" spc="-1" strike="noStrike">
                <a:solidFill>
                  <a:srgbClr val="000000"/>
                </a:solidFill>
                <a:latin typeface="Calibri"/>
              </a:rPr>
              <a:t>»Pripravila in izpeljala sem kratko anketo v razredu o zajtrku. Tisti dan jih je zajtrkovalo le 15%. Pošastno! Nisem se niti zavedala, da je tako slabo…Saj ni čudno, da me prvo uro sploh ne morejo slediti…«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9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Calibri"/>
              </a:rPr>
              <a:t>Zakaj je pomembno zajtrkovat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000" y="1795320"/>
            <a:ext cx="55436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8000"/>
                </a:solidFill>
                <a:latin typeface="Comic Sans MS"/>
              </a:rPr>
              <a:t>“</a:t>
            </a:r>
            <a:r>
              <a:rPr b="0" lang="sl-SI" sz="2200" spc="-1" strike="noStrike">
                <a:solidFill>
                  <a:srgbClr val="008000"/>
                </a:solidFill>
                <a:latin typeface="Comic Sans MS"/>
              </a:rPr>
              <a:t>Po jutru se dan pozna…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8000"/>
                </a:solidFill>
                <a:latin typeface="Comic Sans MS"/>
              </a:rPr>
              <a:t>“</a:t>
            </a:r>
            <a:r>
              <a:rPr b="0" lang="sl-SI" sz="2200" spc="-1" strike="noStrike">
                <a:solidFill>
                  <a:srgbClr val="008000"/>
                </a:solidFill>
                <a:latin typeface="Comic Sans MS"/>
              </a:rPr>
              <a:t>Prazna vreča ne stoji pokonci…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8000"/>
                </a:solidFill>
                <a:latin typeface="Comic Sans MS"/>
              </a:rPr>
              <a:t>“</a:t>
            </a:r>
            <a:r>
              <a:rPr b="0" lang="sl-SI" sz="2200" spc="-1" strike="noStrike">
                <a:solidFill>
                  <a:srgbClr val="008000"/>
                </a:solidFill>
                <a:latin typeface="Comic Sans MS"/>
              </a:rPr>
              <a:t>Zajtrkuj kot kralj, kosi kot princ 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8000"/>
                </a:solidFill>
                <a:latin typeface="Comic Sans MS"/>
              </a:rPr>
              <a:t>večerjaj kot berač….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8000"/>
                </a:solidFill>
                <a:latin typeface="Comic Sans MS"/>
              </a:rPr>
              <a:t>“</a:t>
            </a:r>
            <a:r>
              <a:rPr b="0" lang="sl-SI" sz="2200" spc="-1" strike="noStrike">
                <a:solidFill>
                  <a:srgbClr val="008000"/>
                </a:solidFill>
                <a:latin typeface="Comic Sans MS"/>
              </a:rPr>
              <a:t>Zajtrk pojej sam, kosilo deli s prijatelji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8000"/>
                </a:solidFill>
                <a:latin typeface="Comic Sans MS"/>
              </a:rPr>
              <a:t>večerjo pa daj sovražnikom…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5148360" y="1125360"/>
            <a:ext cx="3808440" cy="2519640"/>
          </a:xfrm>
          <a:prstGeom prst="rect">
            <a:avLst/>
          </a:prstGeom>
          <a:ln w="0">
            <a:noFill/>
          </a:ln>
        </p:spPr>
      </p:pic>
      <p:sp>
        <p:nvSpPr>
          <p:cNvPr id="264" name="Pravokotnik 4"/>
          <p:cNvSpPr/>
          <p:nvPr/>
        </p:nvSpPr>
        <p:spPr>
          <a:xfrm>
            <a:off x="755640" y="5634000"/>
            <a:ext cx="7705800" cy="109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Calibri"/>
              </a:rPr>
              <a:t>Energijo telo potrebuje takrat, ko bo delovalo. Najprimernejši del dneva, da si zagotovimo energijo je zagotovo jutr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713880" y="5536800"/>
            <a:ext cx="7358040" cy="86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Pozitivni učinki na zdravje so ugotovljeni že pr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zajtrkovanju 4 do 5-krat na tede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572000" y="928800"/>
            <a:ext cx="4248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Constantia"/>
              </a:rPr>
              <a:t>Z razvojno psihološkeg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Constantia"/>
              </a:rPr>
              <a:t>vidika:</a:t>
            </a:r>
            <a:r>
              <a:rPr b="0" lang="sl-SI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onstantia"/>
              </a:rPr>
              <a:t>izboljša se pozornost, spomin in odzivni čas,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onstantia"/>
              </a:rPr>
              <a:t>izboljša se zmožnost reševanja kompleksnih nalog,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onstantia"/>
              </a:rPr>
              <a:t>izboljša se razpoloženj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214200" y="981000"/>
            <a:ext cx="4429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Constantia"/>
              </a:rPr>
              <a:t>S prehranskega vidika:</a:t>
            </a:r>
            <a:r>
              <a:rPr b="0" lang="sl-SI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onstantia"/>
              </a:rPr>
              <a:t>izboljša se delovna storilnost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onstantia"/>
              </a:rPr>
              <a:t>izboljša se kakovost zaužite hrane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onstantia"/>
              </a:rPr>
              <a:t>zmanjša se nevarnost pomanjkanja beljakovin, vlaknin, kalcija, železa, magnezija, folne kisline, vitaminov skupine B...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5267160" y="4581360"/>
            <a:ext cx="2857680" cy="855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boljša zmožnost učenj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Down Arrow 6"/>
          <p:cNvSpPr/>
          <p:nvPr/>
        </p:nvSpPr>
        <p:spPr>
          <a:xfrm>
            <a:off x="6357960" y="4005360"/>
            <a:ext cx="57132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4680" y="115560"/>
            <a:ext cx="8496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Calibri"/>
              </a:rPr>
              <a:t>Zajtrk nam da moč in je hrana za možga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dnosti rednega uživanje vseh priporočenih obrokov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13840" y="1928520"/>
            <a:ext cx="5699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 metabolizem, ugoden vpliv na raven krvnega sladkorja, posledično je tudi občutek sitosti boljš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ira bolj kakovostne prehrane preko dneva, ki je bogatejša z vlakninami in revnejša z maščobam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lažje vzdrževanje normalne telesne tež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6443640" y="2492280"/>
            <a:ext cx="205740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jpogostješi razlogi za opuščanje zajtrk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49323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rezgodnja ura (“dijaki vozači”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redolg spanec, ni apetita, slabost..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rezgodaj ponujen in “premočan” premostitveni obrok - malica (združevanje zajtrka in malice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Odvečne kalorije (bojazen, da bi se zredil/-a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reobremenjenost in pomanjkanje čas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403848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 u="sng">
                <a:solidFill>
                  <a:srgbClr val="000000"/>
                </a:solidFill>
                <a:uFillTx/>
                <a:latin typeface="Calibri"/>
              </a:rPr>
              <a:t>Najpogostejše napake pri zajtrkovanj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619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Opuščanje zajtrk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Nepravilno sestavljen zajtrk, ki ne zagotavljajo ustreznega ravnovesja vnešenih hranil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revisoka ali prenizka energijska vrednost obrok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Spremenljiv ritem zajtrkovanj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39052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 u="sng">
                <a:solidFill>
                  <a:srgbClr val="000000"/>
                </a:solidFill>
                <a:uFillTx/>
                <a:latin typeface="Calibri"/>
              </a:rPr>
              <a:t>Kakšen je zdrav zajtr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5840" y="1285560"/>
            <a:ext cx="4906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Calibri"/>
              </a:rPr>
              <a:t>Pretežno sestavljen iz polnovrednih žitnih izdelkov (polnozrnati kruh, kaše..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Calibri"/>
              </a:rPr>
              <a:t>v kombinaciji z beljakovinskim živilom (mlečni izdelki, pusti mesni izdelek…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Calibri"/>
              </a:rPr>
              <a:t>z dodatkom zelenjave ali sadja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300" spc="-1" strike="noStrike">
                <a:solidFill>
                  <a:srgbClr val="000000"/>
                </a:solidFill>
                <a:latin typeface="Calibri"/>
              </a:rPr>
              <a:t>oziroma 100 % soka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10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4038480" cy="2695320"/>
          </a:xfrm>
          <a:prstGeom prst="rect">
            <a:avLst/>
          </a:prstGeom>
          <a:ln w="0">
            <a:noFill/>
          </a:ln>
        </p:spPr>
      </p:pic>
      <p:sp>
        <p:nvSpPr>
          <p:cNvPr id="283" name="TextBox 4"/>
          <p:cNvSpPr/>
          <p:nvPr/>
        </p:nvSpPr>
        <p:spPr>
          <a:xfrm>
            <a:off x="5076720" y="4869000"/>
            <a:ext cx="3926160" cy="1144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Calibri"/>
              </a:rPr>
              <a:t>Zajtrk naj predstavlja približno 20% vseh dnevnih energijskh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Calibri"/>
              </a:rPr>
              <a:t>potreb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6140520" y="1628640"/>
            <a:ext cx="2857320" cy="42865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000" spc="-1" strike="noStrike">
                <a:solidFill>
                  <a:srgbClr val="000000"/>
                </a:solidFill>
                <a:latin typeface="Calibri"/>
              </a:rPr>
              <a:t>Nekaj predlogov tradicionalnih slovenskih zajtrkov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000" y="1344240"/>
            <a:ext cx="6767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črn kruh, maslo, med, jabolko, mlek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ajdov kruh, med, kislo mleko ali navadni jogurt, jabolko, nesladkan čaj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ovsen kruh, skuta, korenček, nesladkan čaj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rosena mlečna kaša s suhimi slivami in medom, hruška, nesladkan čaj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mlečni zdrob z rozinami, hruška, nesladkan čaj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olnozrnat kruh, maslo, marmelada, kaki, nesladkan čaj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olbel kruh, umešano jajce, kisla kumarica, nesladkan čaj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olenta z mlekom, slive ali ka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ovseni kosmiči na mleku z mletimi lešniki, narezano sezonsko sadje, vo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336600"/>
                </a:solidFill>
                <a:latin typeface="Calibri"/>
              </a:rPr>
              <a:t>Pomen uravnotežene prehra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714240" y="1571760"/>
            <a:ext cx="457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V obdobku odraščanja je uravnoteženo prehranjevanje pomembno, ker na eni strani omogoča optimalno zdravje, rast in intelektulanni razvoj, po drugi strani pa preprečuje nastanek zdravstvenih problemov in z njimi v otroštvu ali odrasli dobi povezane bolezni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5357880" y="2000160"/>
            <a:ext cx="33336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336600"/>
                </a:solidFill>
                <a:latin typeface="Calibri"/>
              </a:rPr>
              <a:t>Zakaj jemo vsak da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714240" y="1571760"/>
            <a:ext cx="7890120" cy="42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500" spc="-1" strike="noStrike" u="sng">
                <a:solidFill>
                  <a:srgbClr val="000000"/>
                </a:solidFill>
                <a:uFillTx/>
                <a:latin typeface="Calibri"/>
              </a:rPr>
              <a:t>Hrana je gradbeni material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V času rasti in razvoja hitro rastemo, obenem se naše telo nenehno obnavlja. V nekaj letih podvojimo telesno težo. Le dobro zgrajeno telo bo znalo delovalo tako kot je treba in ustreči vsem našim željam po gibanju, uporabi moči in vztrajnosti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Trdne kosti bodo premikale naše mišice, srce črpalo zdravo kri, prebavila pa nas bodo oskrbovala s potrebnimi hranili. In seveda možgani, v katerih se bo kar bliskalo. 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oljeZBesedilom 1"/>
          <p:cNvSpPr/>
          <p:nvPr/>
        </p:nvSpPr>
        <p:spPr>
          <a:xfrm>
            <a:off x="250920" y="5805360"/>
            <a:ext cx="8497800" cy="764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Calibri"/>
              </a:rPr>
              <a:t>Če pojemo več hrane, kot jo porabimo, se bomo redili, če pojemo manj, kot jo porabimo, pa bomo shujšali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336600"/>
                </a:solidFill>
                <a:latin typeface="Calibri"/>
              </a:rPr>
              <a:t>Zakaj jemo vsak da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714240" y="1571760"/>
            <a:ext cx="7890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500" spc="-1" strike="noStrike" u="sng">
                <a:solidFill>
                  <a:srgbClr val="000000"/>
                </a:solidFill>
                <a:uFillTx/>
                <a:latin typeface="Calibri"/>
              </a:rPr>
              <a:t>Hrana je vir energij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Energijo potrebujemo za to, da lahko karkoli počnemo, dihamo, plešemo, se smejemo, razmišljamo, se kregamo, skratka vse kar nama pade na pamet. Za vse to potrebujemo energijo, ki jo v obliki hrane in pijače zaužijemo vsak dan.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Koliko energije potrebujemo je odvisno od naše presnove, pri kateri porabljamo energijo v mirovanju  za dihanje, črpanje krvi, prebavo... in pri naših dnevnih aktivnostih (delo, šport…).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6886440" y="0"/>
            <a:ext cx="2198880" cy="21337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500" spc="-1" strike="noStrike">
                <a:solidFill>
                  <a:srgbClr val="0d0d0d"/>
                </a:solidFill>
                <a:latin typeface="Calibri"/>
              </a:rPr>
              <a:t>Kakšno hrano potrebujemo, da zadostimo potrebam po energiji in gradbenem materialu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2080" y="1628640"/>
            <a:ext cx="8702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d0d0d"/>
                </a:solidFill>
                <a:latin typeface="Calibri"/>
              </a:rPr>
              <a:t>pestra mešana prehrana, sestavljena iz kombinacije različnih živil iz vseh priporočenih skupin živil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d0d0d"/>
                </a:solidFill>
                <a:latin typeface="Calibri"/>
              </a:rPr>
              <a:t>uživanje več manjših, pogostejših dnevnih obrokov (4 do 5), od katerih je </a:t>
            </a:r>
            <a:r>
              <a:rPr b="1" lang="sl-SI" sz="2200" spc="-1" strike="noStrike">
                <a:solidFill>
                  <a:srgbClr val="0d0d0d"/>
                </a:solidFill>
                <a:latin typeface="Calibri"/>
              </a:rPr>
              <a:t>najpomembnejši zajtrk</a:t>
            </a:r>
            <a:r>
              <a:rPr b="0" lang="sl-SI" sz="2200" spc="-1" strike="noStrike">
                <a:solidFill>
                  <a:srgbClr val="0d0d0d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d0d0d"/>
                </a:solidFill>
                <a:latin typeface="Calibri"/>
              </a:rPr>
              <a:t>polnovredna žita in žitne izdelke (kaše, testenine, riž), ki so vir energij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d0d0d"/>
                </a:solidFill>
                <a:latin typeface="Calibri"/>
              </a:rPr>
              <a:t>mleko in mlečne izdelke, ribe, puste vrste mesa in stročnice, ki so pomembni gradniki teles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d0d0d"/>
                </a:solidFill>
                <a:latin typeface="Calibri"/>
              </a:rPr>
              <a:t>zmerno količino maščob, zlasti kakovostne maščobe, kot so različne vrste olj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d0d0d"/>
                </a:solidFill>
                <a:latin typeface="Calibri"/>
              </a:rPr>
              <a:t>dovolj sadja in /ali zelenjave (4-5 porcij dnevno), s čimer zagotovimo dovolj vitaminov, mineralov, vlaknine…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d0d0d"/>
                </a:solidFill>
                <a:latin typeface="Calibri"/>
              </a:rPr>
              <a:t>dovolj tekočin, zlasti vode, nesladkanega čaja in sadnih sokov (razredčenih z vodo), s čimer zagotovimo delovanje vseh telesnih funkcij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d0d0d"/>
                </a:solidFill>
                <a:latin typeface="Calibri"/>
              </a:rPr>
              <a:t>zmerno količino sol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 u="sng">
                <a:solidFill>
                  <a:srgbClr val="336600"/>
                </a:solidFill>
                <a:uFillTx/>
                <a:latin typeface="Calibri"/>
              </a:rPr>
              <a:t>Vse, kar jemo, učinkuje na naše te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52388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sl-SI" sz="2800" spc="-1" strike="noStrike">
                <a:solidFill>
                  <a:srgbClr val="0d0d0d"/>
                </a:solidFill>
                <a:latin typeface="Calibri"/>
              </a:rPr>
              <a:t>Zato je pomembno, da v obdobju otroštva in najstništva jemo zdravo. Prehranjevanje lahko vpliva na našo (samo)podobo in počutje, pa tudi na zdravje v kasnejših leti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sl-SI" sz="2800" spc="-1" strike="noStrike">
                <a:solidFill>
                  <a:srgbClr val="0d0d0d"/>
                </a:solidFill>
                <a:latin typeface="Calibri"/>
              </a:rPr>
              <a:t>Enako velja za gibanj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sl-SI" sz="2800" spc="-1" strike="noStrike">
                <a:solidFill>
                  <a:srgbClr val="0d0d0d"/>
                </a:solidFill>
                <a:latin typeface="Calibri"/>
              </a:rPr>
              <a:t>Za zdravo prehranjevanje je pomembno tudi, da se prehranjujemo sproščeno in ob jedi uživamo - v miru, brez hrupa, sede, v prijetni družb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d0d0d"/>
                </a:solidFill>
                <a:latin typeface="Calibri"/>
              </a:rPr>
              <a:t>Prehranjevanje po prehranski piramid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042920" y="758880"/>
          <a:ext cx="7135920" cy="609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758880"/>
                    <a:ext cx="7135920" cy="60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500" spc="-1" strike="noStrike">
                <a:solidFill>
                  <a:srgbClr val="000000"/>
                </a:solidFill>
                <a:latin typeface="Constantia"/>
              </a:rPr>
              <a:t>Posledice neustrezne prehran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14200" y="1356840"/>
            <a:ext cx="67341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Neuravnotežena prehrana in slabe prehranjevalne navade so lahko glavni </a:t>
            </a:r>
            <a:r>
              <a:rPr b="1" lang="sl-SI" sz="2200" spc="-1" strike="noStrike" u="sng">
                <a:solidFill>
                  <a:srgbClr val="000000"/>
                </a:solidFill>
                <a:uFillTx/>
                <a:latin typeface="Calibri"/>
              </a:rPr>
              <a:t>vzrok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 u="sng">
                <a:solidFill>
                  <a:srgbClr val="000000"/>
                </a:solidFill>
                <a:uFillTx/>
                <a:latin typeface="Calibri"/>
              </a:rPr>
              <a:t>podhranjenosti, </a:t>
            </a: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ki se lahko pokaže že zelo hitro (pomanjkanje določenih vitaminov in mineralov, npr. slabokrvnost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 u="sng">
                <a:solidFill>
                  <a:srgbClr val="000000"/>
                </a:solidFill>
                <a:uFillTx/>
                <a:latin typeface="Calibri"/>
              </a:rPr>
              <a:t>prekomerne telesne teže in debelosti. </a:t>
            </a: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V letih 1987-2007 je narasel delež prekomerno težkih in debelih v starostni skupini od 6 do 19 let s 15,6 % pri fantih in dekletih na že 28,9 % pri fantih in 24,1 % pri dekletih. (</a:t>
            </a:r>
            <a:r>
              <a:rPr b="0" i="1" lang="sl-SI" sz="1500" spc="-1" strike="noStrike">
                <a:solidFill>
                  <a:srgbClr val="000000"/>
                </a:solidFill>
                <a:latin typeface="Calibri"/>
              </a:rPr>
              <a:t>Vir: Kovač, Strel, Fakulteta za šport. 2009</a:t>
            </a: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 u="sng">
                <a:solidFill>
                  <a:srgbClr val="000000"/>
                </a:solidFill>
                <a:uFillTx/>
                <a:latin typeface="Calibri"/>
              </a:rPr>
              <a:t>slabšega počutja in razpoloženja</a:t>
            </a: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, težjega reševanja nalog in težjega premagovanje telesnih naporov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8" descr=""/>
          <p:cNvPicPr/>
          <p:nvPr/>
        </p:nvPicPr>
        <p:blipFill>
          <a:blip r:embed="rId1"/>
          <a:stretch/>
        </p:blipFill>
        <p:spPr>
          <a:xfrm>
            <a:off x="6715080" y="1679400"/>
            <a:ext cx="236556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500" spc="-1" strike="noStrike">
                <a:solidFill>
                  <a:srgbClr val="000000"/>
                </a:solidFill>
                <a:latin typeface="Constantia"/>
              </a:rPr>
              <a:t>Ali se otroci in mladostniki prehranjujejo zdravo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8000" y="1500120"/>
            <a:ext cx="64800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d0d0d"/>
                </a:solidFill>
                <a:latin typeface="Calibri"/>
                <a:ea typeface="Times New Roman"/>
              </a:rPr>
              <a:t>uživajo premalo zelenjave ter rib, dekleta pa</a:t>
            </a:r>
            <a:r>
              <a:rPr b="0" lang="sl-SI" sz="23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sl-SI" sz="2300" spc="-1" strike="noStrike">
                <a:solidFill>
                  <a:srgbClr val="0d0d0d"/>
                </a:solidFill>
                <a:latin typeface="Calibri"/>
                <a:ea typeface="Times New Roman"/>
              </a:rPr>
              <a:t>tudi premalo mleka in mlečnih izdelkov ter mesa</a:t>
            </a:r>
            <a:r>
              <a:rPr b="0" lang="sl-SI" sz="2300" spc="-1" strike="noStrike">
                <a:solidFill>
                  <a:srgbClr val="0d0d0d"/>
                </a:solidFill>
                <a:latin typeface="Calibri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d0d0d"/>
                </a:solidFill>
                <a:latin typeface="Calibri"/>
                <a:ea typeface="Times New Roman"/>
              </a:rPr>
              <a:t>prepogosto posegajo po visoko kaloričnih izdelkih</a:t>
            </a:r>
            <a:r>
              <a:rPr b="0" lang="sl-SI" sz="2300" spc="-1" strike="noStrike">
                <a:solidFill>
                  <a:srgbClr val="0d0d0d"/>
                </a:solidFill>
                <a:latin typeface="Calibri"/>
              </a:rPr>
              <a:t>, ki so hranilno revni</a:t>
            </a:r>
            <a:r>
              <a:rPr b="0" lang="sl-SI" sz="2300" spc="-1" strike="noStrike">
                <a:solidFill>
                  <a:srgbClr val="0d0d0d"/>
                </a:solidFill>
                <a:latin typeface="Calibri"/>
                <a:ea typeface="Times New Roman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d0d0d"/>
                </a:solidFill>
                <a:latin typeface="Calibri"/>
              </a:rPr>
              <a:t>p</a:t>
            </a:r>
            <a:r>
              <a:rPr b="0" lang="sl-SI" sz="2300" spc="-1" strike="noStrike">
                <a:solidFill>
                  <a:srgbClr val="0d0d0d"/>
                </a:solidFill>
                <a:latin typeface="Calibri"/>
                <a:ea typeface="Times New Roman"/>
              </a:rPr>
              <a:t>ogosto posegajo po sladkih in slanih prigrizkih ter </a:t>
            </a:r>
            <a:r>
              <a:rPr b="0" lang="sl-SI" sz="2300" spc="-1" strike="noStrike">
                <a:solidFill>
                  <a:srgbClr val="0d0d0d"/>
                </a:solidFill>
                <a:latin typeface="Calibri"/>
              </a:rPr>
              <a:t>sladkanih pijačah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d0d0d"/>
                </a:solidFill>
                <a:latin typeface="Calibri"/>
                <a:ea typeface="Times New Roman"/>
              </a:rPr>
              <a:t>zaužijejo manjše število dnevnih obrokov od priporočenega, obenem se prehranjujejo neredno; </a:t>
            </a:r>
            <a:r>
              <a:rPr b="1" lang="sl-SI" sz="2300" spc="-1" strike="noStrike" u="sng">
                <a:solidFill>
                  <a:srgbClr val="0d0d0d"/>
                </a:solidFill>
                <a:uFillTx/>
                <a:latin typeface="Calibri"/>
                <a:ea typeface="Times New Roman"/>
              </a:rPr>
              <a:t>najpogosteje opuščajo zajtrk</a:t>
            </a:r>
            <a:r>
              <a:rPr b="0" lang="sl-SI" sz="2300" spc="-1" strike="noStrike">
                <a:solidFill>
                  <a:srgbClr val="0d0d0d"/>
                </a:solidFill>
                <a:latin typeface="Calibri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d0d0d"/>
                </a:solidFill>
                <a:latin typeface="Calibri"/>
                <a:ea typeface="Times New Roman"/>
              </a:rPr>
              <a:t>nimajo ustreznih navad pitja, pogosto so žejni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d0d0d"/>
                </a:solidFill>
                <a:latin typeface="Calibri"/>
                <a:ea typeface="Times New Roman"/>
              </a:rPr>
              <a:t>slaba samopodoba predvsem deklet (se ocenjuje, da so predebele, so na shujševalni dieti, ali celo menijo, da bi morale shujšati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l-SI" sz="700" spc="-1" strike="noStrike">
                <a:solidFill>
                  <a:srgbClr val="000000"/>
                </a:solidFill>
                <a:latin typeface="Calibri"/>
              </a:rPr>
              <a:t>Vir:</a:t>
            </a:r>
            <a:r>
              <a:rPr b="0" lang="sl-SI" sz="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700" spc="-1" strike="noStrike">
                <a:solidFill>
                  <a:srgbClr val="000000"/>
                </a:solidFill>
                <a:latin typeface="Calibri"/>
              </a:rPr>
              <a:t>HBSC in druge presečne raziskav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6500880" y="2214720"/>
            <a:ext cx="2517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11:07:13Z</dcterms:created>
  <dc:creator>Matej Gregorič</dc:creator>
  <dc:description/>
  <dc:language>en-US</dc:language>
  <cp:lastModifiedBy>MKGP</cp:lastModifiedBy>
  <dcterms:modified xsi:type="dcterms:W3CDTF">2011-10-10T06:47:10Z</dcterms:modified>
  <cp:revision>220</cp:revision>
  <dc:subject/>
  <dc:title>Diapozitiv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